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8BD-A4D7-4850-86E5-AF7A191B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B67-E0E9-4D44-B034-E7A70AA1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7A6-2C37-481F-9DF3-E4FBED8B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BBE-BB10-4DE5-BD78-6537B8A4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8E9-8B8D-4999-BEE9-1A4FBE86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4FE-6742-4E32-A8D4-C80A2812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CE6-EBA9-4E85-89EF-5C87AE9A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19B-480E-4CFF-BDC2-76F38D6C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22FD-3029-48C5-AB9A-8441E701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89C-CE68-488F-9170-A2EEC06E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314-A04F-40E5-92D7-24ACE43A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588-DD29-4321-AB1C-939FB5DA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B6BE-83C1-4EEE-806F-8780C3C87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133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phing equations using 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200400"/>
            <a:ext cx="76201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ndard Form of a Linear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 + BY + C = 0, Where A, B and C are integers and A and B are not both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48006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-intercept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where the line crosses the y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791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-interc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here the line crosses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4724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0,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99080" y="5805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(x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1666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iting Equations in Standar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38188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008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467480" cy="789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58000" y="1905120"/>
            <a:ext cx="12193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057400"/>
            <a:ext cx="74674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 standard form using integ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2x + 7                                    2. y = -3x –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Y = 2/3 x – 1                                 4. y = -2/5x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4864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57294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99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438280" y="4495680"/>
            <a:ext cx="5334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lain how to find the x – and y – intercepts of a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Remember to date and highlight this entr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652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341360"/>
            <a:ext cx="3581280" cy="868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0" y="1295280"/>
            <a:ext cx="358128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086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990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         Graph 3x + 5y= 30 using 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816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419720" cy="706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486400" y="533520"/>
            <a:ext cx="3048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001000" cy="881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1905120"/>
            <a:ext cx="2590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00200"/>
            <a:ext cx="8382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x and y intercepts and grap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x + y =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x + y = 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2x + 3y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54864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63244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6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480" y="1752480"/>
            <a:ext cx="34768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blem of the da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3505320"/>
            <a:ext cx="62481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x and y intercepts and grap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x + 5y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x – 4y =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5x + 4y =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9:13:19Z</dcterms:created>
  <dc:creator>Susannah Graham</dc:creator>
  <dc:description/>
  <dc:language>en-US</dc:language>
  <cp:lastModifiedBy>Susannah Graham</cp:lastModifiedBy>
  <dcterms:modified xsi:type="dcterms:W3CDTF">2009-08-04T21:20:00Z</dcterms:modified>
  <cp:revision>9</cp:revision>
  <dc:subject/>
  <dc:title>Lesson 6.3 Standard Form</dc:title>
</cp:coreProperties>
</file>